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DAC-9C01-4303-B083-B96CB479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9D35-C902-443B-AE7F-6753E7A4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31F-6859-4CEE-86E4-399856D6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5D6-95B3-4FEC-B405-D9291346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824B-3552-4EDC-BC62-4FBA9BA1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4915-BF85-453C-9D6F-28C4CD0B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C466-4D20-4F97-BD3A-6E88162E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B09A-C8A3-4043-AF5D-631A3059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E0BD-8B38-4750-86F4-3D01CDDC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7AC0-AE77-4D40-B052-F5E0E9CD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8F87-4334-4220-B9EE-3517CEE9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F78-F215-4B8F-810D-5BC25F1B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6A17-3B8C-4D65-A0F6-0EE96004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3F1C-DF11-4C90-8447-6001B85E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C371-53A3-4560-BDF8-C9CE0485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91C7-A55A-498D-B33A-CFBA1A2B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97DD-F1B2-4530-B4CE-07944EF9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FF5B-1380-48A8-B11F-CABD1410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037-8700-4AB1-AAD6-FEBA96B7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A31-7EFE-4A75-9CB8-AC683115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D0A-E602-48DF-8D5E-C69C349F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1EA-CF16-4474-B5B2-5FAF7717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027-F105-4F8F-80EB-5038CE19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9DF-E887-40E0-8B9A-5E5CF8A7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E8E2-A3DA-454A-B1E8-429724F53E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AD36-1A18-4D98-B9F5-A5D4EA468D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vice Qu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48120" y="3505320"/>
          <a:ext cx="289548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505320"/>
                    <a:ext cx="289548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use of Qu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1219320"/>
          <a:ext cx="623736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19320"/>
                    <a:ext cx="623736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hieving Service Qu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of Quality (Juran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ice Process Contro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stical Process Control (Deming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conditional Service Guarante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sts of Service Qu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ilure costs                      Detection costs                         Prevention cos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External fail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                       Process control                             Quality plan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ustomer complaints            Peer review                                   Training prog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arranty charges                  Supervision                                   Quality aud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ability insurance                Customer comment card               Data acquisition and analy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gal judgments                   Inspection                                      Preventive mainten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ss of repeat service                                                                 Supplier e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cruitment and sele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Internal failu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r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Recover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ped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abor and materi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752480"/>
            <a:ext cx="8763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2133720"/>
            <a:ext cx="8763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6324480"/>
            <a:ext cx="8534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vice Process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01760" y="2901960"/>
            <a:ext cx="120636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63880" y="5111640"/>
            <a:ext cx="143496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dentify rea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nconform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07280" y="4121280"/>
            <a:ext cx="1282680" cy="67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ablish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sure of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9880" y="4121280"/>
            <a:ext cx="1282680" cy="67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formance 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63880" y="4121280"/>
            <a:ext cx="1434960" cy="67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k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rrec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7280" y="2063880"/>
            <a:ext cx="1282680" cy="67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rvic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7760" y="1758960"/>
            <a:ext cx="901800" cy="9018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stome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7960" y="2673360"/>
            <a:ext cx="977760" cy="9777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stome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82840" y="2901960"/>
            <a:ext cx="1435320" cy="673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rvic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320040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2004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26668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819520" y="32004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52880" y="32004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819520" y="480024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274320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05320" y="541008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48006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49568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ntrol Chart of Departure Delay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990720"/>
          <a:ext cx="859140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85914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191120" y="22096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0520" y="2209680"/>
            <a:ext cx="91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pec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38000" y="2590920"/>
            <a:ext cx="1771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r Control Lim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911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0" y="4876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48769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39240" y="4724280"/>
            <a:ext cx="782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24280" y="4724280"/>
            <a:ext cx="5778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251460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548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386000" y="5334120"/>
                <a:ext cx="26510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CL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1965240" y="5603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952880" y="5334120"/>
                <a:ext cx="26272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L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conditional Service Guarantee:  Customer View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conditional (L.L. Be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y to understand and communicate (Bennigan’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ingful (Domino’s Pizz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y to invoke (Cititrav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y to collect (Manpow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conditional Service Guarantee:  Management View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es on customers (British Air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 clear standards (FedEx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arantees feedback (Manpow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es an understanding of the service delivery system (Bug Kill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s customer loyalty by making expectations explic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ustomer Satisfa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ustomers want to be satisfi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stomer loyalty is only due to the lack of a better alternative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ing customers some extra value will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ligh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m by exceeding their expectation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insure their retur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pressing Dissatisfac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5960" y="3740040"/>
            <a:ext cx="173988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satisf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ccu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8280" y="3054240"/>
            <a:ext cx="1054080" cy="444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8280" y="5568840"/>
            <a:ext cx="1434960" cy="520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 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8480" y="2292480"/>
            <a:ext cx="1587240" cy="444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ublic 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8480" y="4578480"/>
            <a:ext cx="166356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ivate 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7440" y="2978280"/>
            <a:ext cx="2273400" cy="444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redress directly from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 fi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97440" y="3511440"/>
            <a:ext cx="227340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ake legal  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97440" y="3968640"/>
            <a:ext cx="2273400" cy="444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mplaint to business, private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r governmental agenc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7440" y="5187960"/>
            <a:ext cx="2273400" cy="444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op buying the product o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oycott the sel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7440" y="5797440"/>
            <a:ext cx="227340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arn friends about the produ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/or selle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411480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90920" y="327672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32767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57913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327672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267080" y="259092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25909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48769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2743200"/>
            <a:ext cx="0" cy="1447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05520" y="32004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5520" y="37339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41911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510552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54100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594360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819520" y="2057400"/>
          <a:ext cx="12808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057400"/>
                    <a:ext cx="1280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914400" y="2743200"/>
          <a:ext cx="1052640" cy="9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743200"/>
                    <a:ext cx="105264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124080" y="4419720"/>
          <a:ext cx="914400" cy="105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4419720"/>
                    <a:ext cx="9144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457200" y="579132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ustomer Feedback and Word-of-Mout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average business only hears from 4% of their customers who are dissatisfied with their products or services.  Of the 96% who do not bother to complain, 25% of them have serious problem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4% complainers are more likely to stay with the supplier than are the 96% non-complainer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out 60% of the complainers would stay as customers if their problem was resolved and 95% would stay if the problem was resolved quickly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issatisfied customer will tell between 10 and 20 other people about their problem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customer who has had a problem resolved by a company will tell about 5 people about their situ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e the five dimensions of service qual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the service quality gap model to diagnose quality problems for a service fi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ustrate how Taguchi methods and poka-yoke methods are applied to service desig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form service quality function deploy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uct a statistical process control cha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unconditional service guarante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for service recove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Number of People Told Based on Level of Dissatisfa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600200" y="1676520"/>
          <a:ext cx="5813280" cy="47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5813280" cy="475596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ction Taken Based on Level of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issatisfac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2066760"/>
          <a:ext cx="8763120" cy="37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6760"/>
                    <a:ext cx="876312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proaches to Service Recove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34640" y="1447560"/>
            <a:ext cx="7728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ase-by-cas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resses each customer’s complaint individually but could lead to perception of unfair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stematic respo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ses a protocol to handle complaints but needs prior identification of critical failure points and continuous upda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arly interven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ttempts to fix problem before the customer is aff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bstitute servi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llows rival firm to provide service but could lead to loss of custom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king Customers into Champ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as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lking wounded                              Champ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uld complain but don’t;                Active in provid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 happy but repurchase                  British Airways with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formation on qua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its services; loy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emain Loy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f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issing in ac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trac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fected;                                            Defecte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n-complaining                                vocally crit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 eas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n’t complain                                                                compl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pensity to contact British Airwa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-1066320" y="3733560"/>
            <a:ext cx="3429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ow easy customers feel it is t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ntact British Airway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1828800"/>
            <a:ext cx="0" cy="3809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60199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87560" y="1911240"/>
            <a:ext cx="5549760" cy="349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3886200"/>
            <a:ext cx="5562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4280" y="1905120"/>
            <a:ext cx="0" cy="3504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pics for Discu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five dimensions of service quality differ from those of product qual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measuring service quality so difficul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lustrate the four components in the cost of quality for a serv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service firms hesitate to offer a service guarante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an recovery from a service failure be a blessing in disgui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omplaint Let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efly summarize the complaints and compliments in Dr. Loflin’s le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ique the letter of Gail Pearson in reply to Dr. Loflin.  What are the strengths and weaknesses of the let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an “improved” response letter from Gail Pea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further action should Gail Pearson take in view of this incid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ments of Trut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customer contact is called a moment of truth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have the ability to either satisfy or dissatisfy them when you contact them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ervice recover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satisfying a previously dissatisfied customer and making them a loyal custom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mensions of Service Qu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liabi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 Perform promised service dependably and accurately.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receive mail at same time each 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sponsiven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 Willingness to help customers promptly.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void keeping customers waiting for no apparent reason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mensions of Service Qu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ssura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 Ability to convey trust and confidence.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being polite and showing respect for custom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mpath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 Ability to be approachable.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being a good listen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angibl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Physical facilities and facilitating goods.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cleanlines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ceived Service Qu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25440" y="2139840"/>
            <a:ext cx="1130400" cy="520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d o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u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11440" y="2139840"/>
            <a:ext cx="1130400" cy="520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son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e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45160" y="2139840"/>
            <a:ext cx="1130400" cy="520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11440" y="3359160"/>
            <a:ext cx="113040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ec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11440" y="4349880"/>
            <a:ext cx="113040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cei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73160" y="3282840"/>
            <a:ext cx="1739880" cy="204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 Qualit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ponsive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sur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ath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ngi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64280" y="3282840"/>
            <a:ext cx="3111480" cy="2197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 Quality Assess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Expectations exceed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&lt;PS (Quality surpris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Expectations m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~PS (Satisfactory qual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Expectations not m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&gt;PS (Unacceptable qual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26668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26668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2895480"/>
            <a:ext cx="4419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26668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426708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373392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373392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464832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373392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464832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373392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26708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ps in Service Qu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2280" y="1758960"/>
            <a:ext cx="1358640" cy="444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ord -of-mout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82840" y="1758960"/>
            <a:ext cx="1359000" cy="444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sonal nee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26040" y="1758960"/>
            <a:ext cx="1359000" cy="444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 experie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73360" y="2597040"/>
            <a:ext cx="2502000" cy="520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pected 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26040" y="4273560"/>
            <a:ext cx="250200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ternal communication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consum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73360" y="3435480"/>
            <a:ext cx="250200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ceived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3360" y="4273560"/>
            <a:ext cx="250200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rvice delivery (includ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- and post-contact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73360" y="5111640"/>
            <a:ext cx="2502000" cy="520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nslation of perceptions i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rvice quality specif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73360" y="5950080"/>
            <a:ext cx="250200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nagement perceptions of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sumer expect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35200" y="3122640"/>
            <a:ext cx="78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P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35200" y="4799160"/>
            <a:ext cx="78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P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35200" y="5637240"/>
            <a:ext cx="78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5880" y="4875120"/>
            <a:ext cx="78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40160" y="4875120"/>
            <a:ext cx="78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P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209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26668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297180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971800"/>
            <a:ext cx="0" cy="32004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60958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22096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22096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181480" y="2819520"/>
            <a:ext cx="1524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8006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56386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9880" y="39625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48006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56386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572000"/>
            <a:ext cx="838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541008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238880" y="480024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114800"/>
            <a:ext cx="83059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8360" y="2308320"/>
            <a:ext cx="1015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5791320"/>
            <a:ext cx="925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vi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ty Service by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lity in the Service Packag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dget Hotel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guchi Methods (Robustness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fying maids of rooms for clea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ka-yoke (fail-safing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ight bar at amusement pa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lity Function Deploymen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use of Qualit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ication of Service Failur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th Poka-Yoke Opportunit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365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rver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as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ing work incorrec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reat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ilure to listen to custo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angi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ilure to wear clean uni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75200" y="1676520"/>
            <a:ext cx="4168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ustomer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epa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ilure to bring necessary mate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ncoun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ilure to follow system 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solu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ilure to signal service fail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3T10:25:02Z</dcterms:created>
  <dc:creator>James Fitzsimmons</dc:creator>
  <dc:description/>
  <dc:language>en-US</dc:language>
  <cp:lastModifiedBy>mjkhouja</cp:lastModifiedBy>
  <cp:lastPrinted>2000-02-19T13:48:14Z</cp:lastPrinted>
  <dcterms:modified xsi:type="dcterms:W3CDTF">2004-02-10T21:15:27Z</dcterms:modified>
  <cp:revision>47</cp:revision>
  <dc:subject/>
  <dc:title>Service Quality</dc:title>
</cp:coreProperties>
</file>